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E263-7D3E-430D-B0B5-4A5EB0681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6113-B697-419D-84FF-8839386BD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B0D0-2A56-4E43-910D-E0D0BD2D0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m_sanctua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m_sanctuar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4Z</dcterms:modified>
  <cp:revision>20</cp:revision>
  <dc:subject/>
  <dc:title>進入你的聖所</dc:title>
</cp:coreProperties>
</file>