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7C29-409F-4888-9E2A-E63C8B1B3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00DA-DF70-444E-9112-698D649D9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89FE-4A12-4BF1-8D50-BA5A5CE12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進入你的聖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Your Sanctuary 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e_sanctuar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進入你的聖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Your Sanctuary 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me_sanctuar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進入你的聖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Your Sanctuary 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me_sanctuar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9:46Z</dcterms:modified>
  <cp:revision>23</cp:revision>
  <dc:subject/>
  <dc:title>進入你的聖所 In Your Sanctuary</dc:title>
</cp:coreProperties>
</file>