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051-0BE7-4168-85F7-F085574A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019-4B8E-47D2-B8F3-2E2D2397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A52-B1CC-4556-A02C-3EEA3BD0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FF4-44E3-4BDA-8A38-2C53AE5F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017-5355-44C8-A805-31869BA3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24E-855E-4049-A0AD-688F96C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31C-7504-4D89-8707-9711AE6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B09-19AD-42C6-8036-AF6AB01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771-F03D-4613-8F21-DDAE337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1D9-F32C-4371-A1A7-8D5F10C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F87-9D0D-4978-8185-38595E8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3AF-DBB4-4332-B9F5-BA56266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ED2-EDD1-4F6D-A149-A5A1D9893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愿你的国降临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愿你的国降临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2:46Z</dcterms:modified>
  <cp:revision>4</cp:revision>
  <dc:subject/>
  <dc:title>幻灯片 1</dc:title>
</cp:coreProperties>
</file>